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3924-C061-4EFB-AF41-D528D9B041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678-D7EF-4001-96BE-7268BCD3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0B4-BC8C-416F-B9F9-3E505E69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7D6-788B-45E3-ADF7-B85E6B01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0A7-054B-4898-9D4B-BCDD60B8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AD4-B0D3-4216-8CCF-E6C6B1F6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FA3-850D-4B12-A87C-4F875EDC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382-B197-4B9C-9B13-220C62A4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1E0-4C6F-4336-987F-87F6B5C7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F7A-C2E4-468A-B040-11E3FA19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693-FCBD-4AC1-A0B9-1ECE7DB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BA9-B0D0-49D5-92FA-703DE74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591-B53A-4244-B000-FDB0A8C4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C77C-099B-4133-BEA8-A51D9F815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 M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eenhouse Effect, earth would be fr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continue to erup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10%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brupt warming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ic Eruptions - Sudden output of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arming) or particulates (coo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ke, Haze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Alter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458200" cy="626760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447560"/>
                <a:gridCol w="1737000"/>
                <a:gridCol w="16920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1000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-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gla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scon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u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a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n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-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inoi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he/Sa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c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r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omi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osla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on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m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kh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-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Nebraskan 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ap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-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ybo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-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20 Glacial Ad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(2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ing of Pleisto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 (4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arf forests still in Antar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.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Glaciation in Antarc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O18Record800Ka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6668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eepSeaRecord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ilankovich0"/>
          <p:cNvPicPr/>
          <p:nvPr/>
        </p:nvPicPr>
        <p:blipFill>
          <a:blip r:embed="rId1"/>
          <a:stretch/>
        </p:blipFill>
        <p:spPr>
          <a:xfrm>
            <a:off x="1523880" y="1447920"/>
            <a:ext cx="628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recessAxis"/>
          <p:cNvPicPr/>
          <p:nvPr/>
        </p:nvPicPr>
        <p:blipFill>
          <a:blip r:embed="rId1"/>
          <a:stretch/>
        </p:blipFill>
        <p:spPr>
          <a:xfrm>
            <a:off x="4191120" y="12193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ilankovich1"/>
          <p:cNvPicPr/>
          <p:nvPr/>
        </p:nvPicPr>
        <p:blipFill>
          <a:blip r:embed="rId1"/>
          <a:stretch/>
        </p:blipFill>
        <p:spPr>
          <a:xfrm>
            <a:off x="1447920" y="1143000"/>
            <a:ext cx="628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10:32Z</dcterms:created>
  <dc:creator>Steven Dutch</dc:creator>
  <dc:description/>
  <dc:language>en-US</dc:language>
  <cp:lastModifiedBy>RomaK</cp:lastModifiedBy>
  <dcterms:modified xsi:type="dcterms:W3CDTF">2015-09-04T09:43:17Z</dcterms:modified>
  <cp:revision>14</cp:revision>
  <dc:subject/>
  <dc:title>Glaciers </dc:title>
</cp:coreProperties>
</file>